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D5C15-6897-462F-8122-1399CCD98C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00F27-DEB2-48DB-B4D9-1185D16B0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0FDEE-52B4-4EB7-8045-01444A93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A2D94-037E-47B8-B750-7ABE4567FD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84AB9-5D6B-4DD9-B535-16BA2E479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95FB-B605-4FC3-8C7F-1BBE382F7D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7CFA-4873-474F-84B0-E769E0CE8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8CE5-57F5-4D19-A260-8ACE7E47C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C74A-E47F-4FC3-8316-2061716D8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A817-FCAE-46D9-A390-1A3013DE1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4F834-5A07-4A0D-B5C3-528ECE630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CDD4-A52B-4F3D-9453-0083F6A83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75A5-3605-4563-9CFC-CE17047FF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EC11-267F-40EB-8FF3-8F1F2F9E3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D783-6770-4DA1-8604-046962938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7017-E4D0-48A2-8463-BC9DCB6D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7006-532B-4B82-BED2-47A8B9D1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0E7F-5A5D-4BB7-AD25-0A070441EE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AEB3EA-76D3-4F1B-B664-80FDE5A8C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24853B-F92A-40D4-9AAD-4F0AD6AD8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20EFCC-0F55-4897-9EC2-67B92549D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D0A8C-3DB7-4E78-81FB-64CD33D55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A2A37B-6E5A-46E9-AA40-5FAB69DED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276746-C884-4900-99A9-A407C6703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9E1360-319B-4233-ACF7-21CDCCD0E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084950-44E3-4A0A-93E5-50C7E9BE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C4C114-67F1-4077-BEC8-0A2908D0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1F15D6-DB46-480F-9490-F861BFB8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EA7F8E-6025-4D9E-8139-F9355D585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CD766C-9048-49E0-A368-ECBE14F6E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15728C-A696-4AB5-95A5-81BA445B6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29BB02-2FC4-41A0-B941-34A5918E3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6AD43-F461-4F3E-BC73-4C3620C28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C235F9-212A-4E50-9F6A-FDFD537AE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21E83E-F06D-48EF-A6F8-A117DC881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48F59E-6648-403B-9F0F-7DAC8D2C3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C586DA-4925-44E5-B279-F3CDB28A0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7FAF13-BF90-4527-9757-98BEFAB73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1286E9-3680-41B0-AE5F-B28ADC6D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29E0E3-CB14-4199-AF7B-46ECA4D6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311301-915A-442C-BC01-EE947DDF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1EACAC-7620-42CC-AC73-E6E76FA04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229657-8A11-41DD-822B-529AB3CD3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F1E91-980E-490F-973D-A7BF6498D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33BF95-F4FD-454E-A557-8459408C2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AB6FA7-A4CD-47CB-BA8E-7142E3CB1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6BB046-3199-40BA-9C9E-B238FD4F1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5BBFB3F-1DDC-474D-B465-F51A3CAE8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AD8369-9CA5-4949-8C9A-5476109AC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6FB4BF-6220-4CE1-AF22-C3DAA1818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A86BEF-F455-4FE6-8225-314AD8903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B82530-BE3A-4D72-860F-4CD05438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53B1EB-D958-451F-8A49-FDC9E0E4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BAD89A-B621-4756-8BBB-354D56CD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393A1-0963-476B-8640-30BC2EA78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32183C-B2C4-48D9-BB1F-3810AFEBC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B4312F-F806-4E74-9BDA-B77F96358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951CC21-45BA-45F7-8A20-E7F658387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0BABAC-DBEE-448A-AC7A-932689114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FF00030-CC2F-4C73-B3CE-5BB5419D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E76073-74F5-4DCA-8CF6-0A033B0AC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0B4D145-62A3-48A5-AD4D-4454BC091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01EE3D-2D33-49A9-B2B1-4EA8674AC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29AD2D-6177-47DC-8234-57C738853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3C0CD8C-9530-44FE-BCC5-C35EAAD6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7ED27-F6A6-43C9-8E1E-9B4B3ED96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F66065B-9F4B-458C-96C4-B4EAB161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1DC67A-30A3-499E-9182-880A9E29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E2930A-0BDE-481C-8D6D-3966AFA54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D750E9-F1B8-481E-8BB6-244FB2E11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18052D-60EB-43FE-81D1-A296E3412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01A2B5C-355C-40A4-8006-6B6317D78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35FE0E-9368-42F5-97DA-B98A02463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C1AFB83-1B19-4F83-9932-9DF4B8E0D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DEAADBF-DC44-456C-9FC6-234B30EE5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A4336B-93EB-4B39-8C57-9A79C581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3BAE0-CF81-4DEB-BE38-34D57A23D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3F11A2E-D3C2-4F03-BFF6-C1BC86C59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E47334C-65D3-4D91-B112-34CADE8F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162D03E-D651-41A1-B373-2753AE38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C78F29-6045-4002-AFB5-DDC6805A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16766CA-CCEF-431A-BAFC-8B742304B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D7C78A1-DBBF-472E-A09C-2BC2CD0B4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A34BCE1-0403-42C0-AA46-0BD939D29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BD265-8CDD-420A-BDA7-B2AD4701B50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42840" y="0"/>
            <a:ext cx="9144000" cy="2089080"/>
            <a:chOff x="4284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71280" y="0"/>
              <a:ext cx="9115560" cy="1790640"/>
              <a:chOff x="7128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7128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7128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4284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8160" y="2491920"/>
            <a:ext cx="8077320" cy="22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E3489-EB03-4061-9FF2-EE5685FE94F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4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D0666-1F2D-4CB9-86ED-43B2C4B04C8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5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E1872-CD01-4EEC-A872-D0643535009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1BB29-B87C-4BE1-A0B1-D2CDFE30148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1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AEAF6-7F1D-4F82-AFF0-67F759F7FA3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1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87FF-8639-47B2-B91D-EC8669A0A46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7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1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A5ECD-CCAA-4477-845E-5810326A4067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2"/>
          <p:cNvSpPr/>
          <p:nvPr/>
        </p:nvSpPr>
        <p:spPr>
          <a:xfrm>
            <a:off x="-1746360" y="1773360"/>
            <a:ext cx="8496360" cy="30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四节  </a:t>
            </a: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脊髓损伤</a:t>
            </a:r>
            <a:br>
              <a:rPr sz="6600"/>
            </a:b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BCCC0-0A79-49B3-B8A4-E9E2FDE6270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74200" y="83628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二）感觉功能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不同部位、程度的脊髓损伤产生不同类型的感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觉障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具体表现为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①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不完全性损伤：感觉障碍呈不完全性丧失，其范围和部位差异明显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②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完全性损伤：损伤平面以上可有痛觉过敏；损伤平面以下感觉完全丧失，包括肛门周围的粘膜感觉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5460B-464E-4767-8650-06D96C68096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9214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二）感觉功能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感觉功能障碍还可以出现在以下这些症状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title"/>
          </p:nvPr>
        </p:nvSpPr>
        <p:spPr>
          <a:xfrm>
            <a:off x="574200" y="83628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grpSp>
        <p:nvGrpSpPr>
          <p:cNvPr id="420" name="Group 12"/>
          <p:cNvGrpSpPr/>
          <p:nvPr/>
        </p:nvGrpSpPr>
        <p:grpSpPr>
          <a:xfrm>
            <a:off x="250920" y="4797360"/>
            <a:ext cx="8497800" cy="1143000"/>
            <a:chOff x="250920" y="4797360"/>
            <a:chExt cx="8497800" cy="1143000"/>
          </a:xfrm>
        </p:grpSpPr>
        <p:sp>
          <p:nvSpPr>
            <p:cNvPr id="421" name="AutoShape 3"/>
            <p:cNvSpPr/>
            <p:nvPr/>
          </p:nvSpPr>
          <p:spPr>
            <a:xfrm>
              <a:off x="250920" y="4797360"/>
              <a:ext cx="1981080" cy="1143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华文新魏"/>
                  <a:ea typeface="华文新魏"/>
                </a:rPr>
                <a:t>疼       痛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2" name="AutoShape 3"/>
            <p:cNvSpPr/>
            <p:nvPr/>
          </p:nvSpPr>
          <p:spPr>
            <a:xfrm>
              <a:off x="2484360" y="4797360"/>
              <a:ext cx="1871640" cy="1143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华文新魏"/>
                  <a:ea typeface="华文新魏"/>
                </a:rPr>
                <a:t>感觉异常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3" name="AutoShape 3"/>
            <p:cNvSpPr/>
            <p:nvPr/>
          </p:nvSpPr>
          <p:spPr>
            <a:xfrm>
              <a:off x="4572000" y="4797360"/>
              <a:ext cx="2016000" cy="1143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华文新魏"/>
                  <a:ea typeface="华文新魏"/>
                </a:rPr>
                <a:t>感觉丧失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" name="AutoShape 3"/>
            <p:cNvSpPr/>
            <p:nvPr/>
          </p:nvSpPr>
          <p:spPr>
            <a:xfrm>
              <a:off x="6732720" y="4797360"/>
              <a:ext cx="2016000" cy="1143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华文新魏"/>
                  <a:ea typeface="华文新魏"/>
                </a:rPr>
                <a:t>感觉分离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5" name="AutoShape 11"/>
          <p:cNvSpPr/>
          <p:nvPr/>
        </p:nvSpPr>
        <p:spPr>
          <a:xfrm>
            <a:off x="468360" y="2565360"/>
            <a:ext cx="7848720" cy="1008000"/>
          </a:xfrm>
          <a:prstGeom prst="flowChartTerminator">
            <a:avLst/>
          </a:prstGeom>
          <a:noFill/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6" name="Freeform 14"/>
          <p:cNvSpPr/>
          <p:nvPr/>
        </p:nvSpPr>
        <p:spPr>
          <a:xfrm flipH="1" rot="6229800">
            <a:off x="1223640" y="3607920"/>
            <a:ext cx="1006200" cy="1079640"/>
          </a:xfrm>
          <a:custGeom>
            <a:avLst/>
            <a:gdLst>
              <a:gd name="textAreaLeft" fmla="*/ -360 w 1006200"/>
              <a:gd name="textAreaRight" fmla="*/ 1006200 w 100620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7" name="AutoShape 16"/>
          <p:cNvSpPr/>
          <p:nvPr/>
        </p:nvSpPr>
        <p:spPr>
          <a:xfrm>
            <a:off x="3203640" y="3933720"/>
            <a:ext cx="576360" cy="719280"/>
          </a:xfrm>
          <a:prstGeom prst="downArrow">
            <a:avLst>
              <a:gd name="adj1" fmla="val 30028"/>
              <a:gd name="adj2" fmla="val 72440"/>
            </a:avLst>
          </a:prstGeom>
          <a:gradFill rotWithShape="0">
            <a:gsLst>
              <a:gs pos="0">
                <a:srgbClr val="e6c95f">
                  <a:alpha val="40000"/>
                </a:srgbClr>
              </a:gs>
              <a:gs pos="100000">
                <a:srgbClr val="ddb5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" name="AutoShape 16"/>
          <p:cNvSpPr/>
          <p:nvPr/>
        </p:nvSpPr>
        <p:spPr>
          <a:xfrm>
            <a:off x="5292720" y="3933720"/>
            <a:ext cx="576360" cy="719280"/>
          </a:xfrm>
          <a:prstGeom prst="downArrow">
            <a:avLst>
              <a:gd name="adj1" fmla="val 30028"/>
              <a:gd name="adj2" fmla="val 72440"/>
            </a:avLst>
          </a:prstGeom>
          <a:gradFill rotWithShape="0">
            <a:gsLst>
              <a:gs pos="0">
                <a:srgbClr val="e6c95f">
                  <a:alpha val="40000"/>
                </a:srgbClr>
              </a:gs>
              <a:gs pos="100000">
                <a:srgbClr val="ddb5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" name="Freeform 15"/>
          <p:cNvSpPr/>
          <p:nvPr/>
        </p:nvSpPr>
        <p:spPr>
          <a:xfrm flipH="1" flipV="1" rot="3382800">
            <a:off x="7002360" y="3732840"/>
            <a:ext cx="1336680" cy="871200"/>
          </a:xfrm>
          <a:custGeom>
            <a:avLst/>
            <a:gdLst>
              <a:gd name="textAreaLeft" fmla="*/ -360 w 1336680"/>
              <a:gd name="textAreaRight" fmla="*/ 1336680 w 1336680"/>
              <a:gd name="textAreaTop" fmla="*/ 360 h 871200"/>
              <a:gd name="textAreaBottom" fmla="*/ 871920 h 87120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0E583-E04A-4AE5-9DB5-343A2D0F460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394920" y="1988640"/>
            <a:ext cx="8248680" cy="3807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三）排尿、排便功能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排尿功能障碍  主要表现为膀胱括约肌功能障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排便功能障碍  主要表现为肛门括约肌功能障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32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矩形 1"/>
          <p:cNvSpPr/>
          <p:nvPr/>
        </p:nvSpPr>
        <p:spPr>
          <a:xfrm>
            <a:off x="395280" y="1341360"/>
            <a:ext cx="817236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知识链接</a:t>
            </a:r>
            <a:r>
              <a:rPr b="0" i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楷体"/>
                <a:ea typeface="华文楷体"/>
              </a:rPr>
              <a:t>便携式膀胱</a:t>
            </a:r>
            <a:r>
              <a:rPr b="1" lang="en-US" sz="3200" spc="-1" strike="noStrike">
                <a:solidFill>
                  <a:srgbClr val="1d1496"/>
                </a:solidFill>
                <a:latin typeface="华文楷体"/>
                <a:ea typeface="华文楷体"/>
              </a:rPr>
              <a:t>B</a:t>
            </a:r>
            <a:r>
              <a:rPr b="1" lang="zh-CN" sz="3200" spc="-1" strike="noStrike">
                <a:solidFill>
                  <a:srgbClr val="1d1496"/>
                </a:solidFill>
                <a:latin typeface="华文楷体"/>
                <a:ea typeface="华文楷体"/>
              </a:rPr>
              <a:t>超在脊髓损伤患者中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华文楷体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00b0f0"/>
                </a:solidFill>
                <a:latin typeface="华文楷体"/>
                <a:ea typeface="华文楷体"/>
              </a:rPr>
              <a:t>脊髓损伤的患者往往伴有尿潴留，所以对患者进行残余尿量的测定是非常重要的环节，以往主要采取导尿术、腹部叩击法、放射性扫描、辅助检查室超声波检查法等方法检查，对患者具有一定的损伤性和不方便性，便携式膀胱</a:t>
            </a:r>
            <a:r>
              <a:rPr b="1" lang="en-US" sz="2800" spc="-1" strike="noStrike">
                <a:solidFill>
                  <a:srgbClr val="00b0f0"/>
                </a:solidFill>
                <a:latin typeface="华文楷体"/>
                <a:ea typeface="华文楷体"/>
              </a:rPr>
              <a:t>B</a:t>
            </a:r>
            <a:r>
              <a:rPr b="1" lang="zh-CN" sz="2800" spc="-1" strike="noStrike">
                <a:solidFill>
                  <a:srgbClr val="00b0f0"/>
                </a:solidFill>
                <a:latin typeface="华文楷体"/>
                <a:ea typeface="华文楷体"/>
              </a:rPr>
              <a:t>超可以克服这些检查的缺点，具有无痛性、安全、简便、舒适，目前在临床上应用广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25FD9-86DB-4C61-B0B2-20735EB828C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395280" y="1773360"/>
            <a:ext cx="8748720" cy="380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四）自主性反射障碍 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自主性反射障碍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utonomic dysreflexia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D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是一种急性的交感兴奋综合征，常发生于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T6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或以上的脊髓损伤患者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。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36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7" name="AutoShape 5"/>
          <p:cNvSpPr/>
          <p:nvPr/>
        </p:nvSpPr>
        <p:spPr>
          <a:xfrm>
            <a:off x="1908000" y="4346640"/>
            <a:ext cx="7020000" cy="1584360"/>
          </a:xfrm>
          <a:prstGeom prst="cloudCallout">
            <a:avLst>
              <a:gd name="adj1" fmla="val -32925"/>
              <a:gd name="adj2" fmla="val -79050"/>
            </a:avLst>
          </a:prstGeom>
          <a:noFill/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" name="Text Box 6"/>
          <p:cNvSpPr/>
          <p:nvPr/>
        </p:nvSpPr>
        <p:spPr>
          <a:xfrm>
            <a:off x="2771640" y="4437000"/>
            <a:ext cx="60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华文新魏"/>
                <a:ea typeface="华文新魏"/>
              </a:rPr>
              <a:t>其特征为严重的高血压、搏动性头痛、视物不清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华文新魏"/>
                <a:ea typeface="华文新魏"/>
              </a:rPr>
              <a:t>心动过缓、损伤平面以上出汗、潮红和鼻塞等症状。</a:t>
            </a:r>
            <a:r>
              <a:rPr b="1" lang="zh-CN" sz="1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E3ECD-B344-493D-9969-B5536A3790D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250920" y="2060640"/>
            <a:ext cx="864216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70c0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五）脊髓休克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休克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spinal shock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是指脊髓受到外力损伤后，脊髓与大脑高级中枢的联系中断，损伤平面以下所有神经反射消失，肢体呈完全性迟缓性瘫痪，出现尿潴留、便失禁等症状。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CF967-8818-499B-8BDC-084EF28366E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250560" y="2060640"/>
            <a:ext cx="889308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六）其他功能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由于交感神经损伤，患者可出现排汗功能、血管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运动功能障碍和体温调节障碍。除此之外，患者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还可出现心动过缓、直立性低血压、皮肤脱屑、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水肿、指甲松脆和角化过度等症状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4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5428-6DA0-4B1A-BAF0-7449E512B99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323640" y="1857240"/>
            <a:ext cx="856908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的神经功能评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损伤平面的评定：损伤平面是指保留身体双侧正常运动和感觉功能的最低脊髓节段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title"/>
          </p:nvPr>
        </p:nvSpPr>
        <p:spPr>
          <a:xfrm>
            <a:off x="500040" y="5716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755640" y="4221000"/>
            <a:ext cx="7632720" cy="106884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运动平面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(motor level)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评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感觉平面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(sensory level)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评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41406-345F-40C5-93E6-D7626F195E1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324000" y="1700280"/>
            <a:ext cx="88200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损伤严重程度评定  常采用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SIA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的损伤分级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评定可表现为：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①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完全性损伤时，即无感觉也无运动功能，可有部分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能保留区（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zone of partial preservation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ZPP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，但不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超过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个节段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②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不完全性损伤时保留部分感觉和（或）运动功能，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部分保留区超过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个节段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③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部分功能保留区只适用于完全性脊髓损伤患者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title"/>
          </p:nvPr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52" name="Rectangle 5"/>
          <p:cNvSpPr/>
          <p:nvPr/>
        </p:nvSpPr>
        <p:spPr>
          <a:xfrm>
            <a:off x="52704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DDFB-C243-4FD8-94D9-C5C0A0BF8DD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8200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休克的评定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阳性表现：损伤平面以下所有神经反射消失，肢体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呈完全性迟缓性瘫痪、尿潴留、便失禁。阳性体征：球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海绵体）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-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肛门反射消失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结束表现：损伤水平以下出现任何感觉、运动或肌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肉张力升高和痉挛。阳性体征：球（海绵体）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-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肛门反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射再出现。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title"/>
          </p:nvPr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93B1C-254F-4EBD-A715-493122BAAFE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主要内容</a:t>
            </a:r>
            <a:endParaRPr b="1" lang="en-US" sz="48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58560" y="1844280"/>
            <a:ext cx="70311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概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主要功能障碍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措施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指导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运动功能的评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运动评分：采用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SIA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ISCOS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的运动评分法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痉挛评定：目前多采用改良的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shworth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量表进行评定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57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5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感觉功能的评定  采用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SIA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的感觉指数评分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sensory index score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SIS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进行评定。选择身体两侧共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8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对皮区关键点，在每个关键点上检查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种感觉，即针刺觉和轻触觉，按三个等级分别评定打分：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0=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缺失、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=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异常、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=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正常、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NT=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无法检查。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59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6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日常生活活动能力评估  截瘫患者可用改良的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Barthe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指数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MBI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量表进行评定；四肢瘫患者用四肢瘫功能指数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quadriplegic index of function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QIF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进行评定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61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7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心理、社会状况评估  脊髓损伤患者因发病急、病情重，会产生严重的心理负担及社会压力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8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平面和功能预后关系的评定  对完全性脊髓损伤的患者，根据损伤平面预测其功能恢复情况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63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517680" y="2276280"/>
            <a:ext cx="7534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根据脊髓损伤患者的临床表现，常用的康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复护理诊断如下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躯体活动障碍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排尿障碍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3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排便失禁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4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清理呼吸道无效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787640" y="3499920"/>
            <a:ext cx="3924360" cy="28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5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焦虑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6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有受伤的危险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7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有感染的危险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8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皮肤完整性受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7" name="AutoShape 6"/>
          <p:cNvSpPr/>
          <p:nvPr/>
        </p:nvSpPr>
        <p:spPr>
          <a:xfrm>
            <a:off x="468360" y="3429000"/>
            <a:ext cx="3816360" cy="2376360"/>
          </a:xfrm>
          <a:prstGeom prst="flowChartAlternateProcess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8" name="AutoShape 7"/>
          <p:cNvSpPr/>
          <p:nvPr/>
        </p:nvSpPr>
        <p:spPr>
          <a:xfrm>
            <a:off x="4716360" y="3429000"/>
            <a:ext cx="3816360" cy="2376360"/>
          </a:xfrm>
          <a:prstGeom prst="flowChartAlternateProcess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9280" y="691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Verdana"/>
                <a:ea typeface="宋体"/>
              </a:rPr>
              <a:t>案例</a:t>
            </a:r>
            <a:r>
              <a:rPr b="1" lang="en-US" sz="4400" spc="-1" strike="noStrike">
                <a:solidFill>
                  <a:srgbClr val="ff0000"/>
                </a:solidFill>
                <a:latin typeface="Verdana"/>
                <a:ea typeface="宋体"/>
              </a:rPr>
              <a:t>6-4B</a:t>
            </a:r>
            <a:br>
              <a:rPr sz="4400"/>
            </a:b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611280" y="1992240"/>
            <a:ext cx="813744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    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该患者经保守治疗病情稳定，颅骨牵引已经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8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周。康复护理评估：腕背伸级肌力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级，肱三头肌肌力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级，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天排便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次，且粪便干结，尿失禁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</a:rPr>
              <a:t>问题与思考：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</a:rPr>
              <a:t>该患者应采取哪些康复护理措施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324000" y="1752480"/>
            <a:ext cx="88200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对患者现存的康复护理问题进行排序后，制定近期目标和远期目标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近期目标：①稳定患者情绪，减轻焦虑程度，帮助患者面对疾病，配合治疗和护理。②康复护理措施的实施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远期目标：利用多种手段，使患者受限或丧失的功能和能力得到最大限度的恢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0" y="1844640"/>
            <a:ext cx="91440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急性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正确体位的摆放：正确的体位可以促进患者肢体功能恢复，有助于预防关节挛缩和压疮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仰卧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侧卧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74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0" y="1844640"/>
            <a:ext cx="91440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被动活动：为防止关节挛缩和畸形，从脊髓损伤急性休克期开始，直至患者能够主动进行全关节活动范围运动均应进行被动活动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主动活动：针对患者肢体残存功能进行训练，扩大代偿功能，为日后的其他训练打好基础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76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/>
          </p:nvPr>
        </p:nvSpPr>
        <p:spPr>
          <a:xfrm>
            <a:off x="0" y="1844640"/>
            <a:ext cx="91440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体位变换：脊髓损伤患者应根据病情变换体位，一般每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小时变换一次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呼吸及排痰训练：指导患者进行呼吸训练和辅助咳嗽训练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843280" y="9079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华文新魏"/>
              </a:rPr>
              <a:t>教学目标</a:t>
            </a:r>
            <a:endParaRPr b="1" lang="en-US" sz="4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55280" y="2636640"/>
            <a:ext cx="8072280" cy="292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识记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脊髓损伤概念、分类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脊髓损伤患者存在的主要功能障碍及护理评估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理解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脊髓损伤的病因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运用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对完全性脊髓损伤患者设计康复护理方案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8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7DA7D-BFBC-4586-8D30-9D1A9379868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611280" y="1844640"/>
            <a:ext cx="853272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6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排尿、排便的处理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排尿护理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排便护理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80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324000" y="1699920"/>
            <a:ext cx="9144000" cy="47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运动功能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增强肌力训练：脊髓损伤患者为了应用轮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椅、拐杖或自助器，在卧床或坐位时，要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视肌力的训练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82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324000" y="1699920"/>
            <a:ext cx="8424720" cy="47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运动功能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按照患者的肌力水平选择适宜的运动训练方式：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①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0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和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肌力主要训练方法为被动活动、肌肉电刺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激及生物反馈治疗；②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～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肌力时，可进行较大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范围的辅助、主动及器械性运动，根据患者肌力情况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，调节辅助量；③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～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肌力时，可进行抗阻力运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动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床上移动训练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运动功能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床上移动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86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" name="Text Box 4"/>
          <p:cNvSpPr/>
          <p:nvPr/>
        </p:nvSpPr>
        <p:spPr>
          <a:xfrm>
            <a:off x="5889240" y="4149720"/>
            <a:ext cx="1597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①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翻身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②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肘支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③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手支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④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床上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8" name="Group 15"/>
          <p:cNvGrpSpPr/>
          <p:nvPr/>
        </p:nvGrpSpPr>
        <p:grpSpPr>
          <a:xfrm>
            <a:off x="5292720" y="3789360"/>
            <a:ext cx="3022200" cy="3604680"/>
            <a:chOff x="5292720" y="3789360"/>
            <a:chExt cx="3022200" cy="3604680"/>
          </a:xfrm>
        </p:grpSpPr>
        <p:sp>
          <p:nvSpPr>
            <p:cNvPr id="489" name="AutoShape 16"/>
            <p:cNvSpPr/>
            <p:nvPr/>
          </p:nvSpPr>
          <p:spPr>
            <a:xfrm>
              <a:off x="5292720" y="3939840"/>
              <a:ext cx="3022200" cy="264888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" name="AutoShape 17"/>
            <p:cNvSpPr/>
            <p:nvPr/>
          </p:nvSpPr>
          <p:spPr>
            <a:xfrm>
              <a:off x="5577120" y="3819960"/>
              <a:ext cx="2453760" cy="240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3a3a"/>
                </a:gs>
                <a:gs pos="50000">
                  <a:srgbClr val="969696"/>
                </a:gs>
                <a:gs pos="100000">
                  <a:srgbClr val="3a3a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" name="AutoShape 18"/>
            <p:cNvSpPr/>
            <p:nvPr/>
          </p:nvSpPr>
          <p:spPr>
            <a:xfrm flipH="1">
              <a:off x="7794360" y="3879720"/>
              <a:ext cx="94320" cy="1213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2" name="AutoShape 19"/>
            <p:cNvSpPr/>
            <p:nvPr/>
          </p:nvSpPr>
          <p:spPr>
            <a:xfrm flipH="1">
              <a:off x="5709960" y="3879720"/>
              <a:ext cx="96120" cy="1213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3" name="Text Box 20"/>
            <p:cNvSpPr/>
            <p:nvPr/>
          </p:nvSpPr>
          <p:spPr>
            <a:xfrm>
              <a:off x="6695280" y="3789360"/>
              <a:ext cx="175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4" name="Text Box 21"/>
            <p:cNvSpPr/>
            <p:nvPr/>
          </p:nvSpPr>
          <p:spPr>
            <a:xfrm>
              <a:off x="5393160" y="4159800"/>
              <a:ext cx="2809080" cy="32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5" name="Freeform 12"/>
          <p:cNvSpPr/>
          <p:nvPr/>
        </p:nvSpPr>
        <p:spPr>
          <a:xfrm>
            <a:off x="3780000" y="3213000"/>
            <a:ext cx="2590560" cy="11574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2c2c2">
                  <a:alpha val="32156"/>
                </a:srgbClr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250920" y="1915920"/>
            <a:ext cx="842472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坐位训练：脊髓损伤患者多采用长坐位和端坐位进行平衡维持训练，包括静态平衡训练和动态平衡训练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转移训练：根据患者脊髓损伤平面、残存肌力及关节活动度等情况选择不同的转移方法，包括辅助转移和独立转移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97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能力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①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将训练内容与日常生活活动相结合，如进食训练在三餐时进行。②训练前做好各种准备，如辅助患者排空二便，妥善固定各种导管，以防训练中脱落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99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能力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③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训练过程中鼓励患者尽量自己完成所有步骤，必要时才给予协助。④让家庭成员共同参与训练过程，指导其用最恰当的方式帮助患者生活自理。⑤训练前、后观察患者身体状况和精神状态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01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站立训练：在坐位训练完成较好后可以开始站立训练，首先进行体位适应性训练，以防止直立性低血压，站立训练过程中应注意协助患者保持脊柱的稳定性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6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步行训练：脊髓损伤后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个月，已完成上述训练者配带矫形器进行训练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03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" name="Rectangle 5"/>
          <p:cNvSpPr/>
          <p:nvPr/>
        </p:nvSpPr>
        <p:spPr>
          <a:xfrm>
            <a:off x="468360" y="73836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矫形器、辅助器具和环境改造的护理：具体包括：①指导患者及家属如何正确佩戴和使用矫形器、辅助器具和轮椅。②告之注意事项。③与医生、康复治疗师、矫形器技师、患者、家属一同对患者所处的环境进行无障碍设计和改造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06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7" name="Rectangle 5"/>
          <p:cNvSpPr/>
          <p:nvPr/>
        </p:nvSpPr>
        <p:spPr>
          <a:xfrm>
            <a:off x="47484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心理护理：建立良好护患关系、疏导负性情绪、帮助患者正视疾病与残疾、指导患者家属。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09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0" name="Rectangle 5"/>
          <p:cNvSpPr/>
          <p:nvPr/>
        </p:nvSpPr>
        <p:spPr>
          <a:xfrm>
            <a:off x="468360" y="7048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F0499-3C6A-4E87-82A6-F46C432C303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178920" y="1844640"/>
            <a:ext cx="820908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一）定义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spinal cord injury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SCI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是由外伤、疾病和先天发育不良等因素引起的脊髓结构和功能的损害，造成损伤水平以下运动、感觉、自主神经功能的异常以及相应的并发症，导致不同程度的残疾。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539280" y="1773000"/>
            <a:ext cx="8001000" cy="31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并发症的护理  多数脊髓损伤患者死于并发症，只有及时有效的防治，才能提高患者的生存质量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常见的并发症包括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12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6102720" y="5084640"/>
            <a:ext cx="6012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压疮、泌尿系感染、疼痛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下肢深静脉血栓、异位骨化等</a:t>
            </a:r>
            <a:r>
              <a:rPr b="0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" name="AutoShape 6"/>
          <p:cNvSpPr/>
          <p:nvPr/>
        </p:nvSpPr>
        <p:spPr>
          <a:xfrm>
            <a:off x="3419640" y="4941720"/>
            <a:ext cx="5364000" cy="1656000"/>
          </a:xfrm>
          <a:prstGeom prst="cloudCallout">
            <a:avLst>
              <a:gd name="adj1" fmla="val -8625"/>
              <a:gd name="adj2" fmla="val -112777"/>
            </a:avLst>
          </a:prstGeom>
          <a:noFill/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24000" y="2204640"/>
            <a:ext cx="4248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一）自我护理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二）合理膳食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三）心理调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四）持之以恒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五）回归社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16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五、康复护理指导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7" name="Text Box 4"/>
          <p:cNvSpPr/>
          <p:nvPr/>
        </p:nvSpPr>
        <p:spPr>
          <a:xfrm>
            <a:off x="5253480" y="2349360"/>
            <a:ext cx="2926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学会自我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养成良好的卫生习惯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药物管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加强二便管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5.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定期复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8" name="Group 15"/>
          <p:cNvGrpSpPr/>
          <p:nvPr/>
        </p:nvGrpSpPr>
        <p:grpSpPr>
          <a:xfrm>
            <a:off x="4500720" y="1989000"/>
            <a:ext cx="4392000" cy="3618720"/>
            <a:chOff x="4500720" y="1989000"/>
            <a:chExt cx="4392000" cy="3618720"/>
          </a:xfrm>
        </p:grpSpPr>
        <p:sp>
          <p:nvSpPr>
            <p:cNvPr id="519" name="AutoShape 16"/>
            <p:cNvSpPr/>
            <p:nvPr/>
          </p:nvSpPr>
          <p:spPr>
            <a:xfrm>
              <a:off x="4500720" y="2145960"/>
              <a:ext cx="4392000" cy="275868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0" name="AutoShape 17"/>
            <p:cNvSpPr/>
            <p:nvPr/>
          </p:nvSpPr>
          <p:spPr>
            <a:xfrm>
              <a:off x="4914000" y="2021040"/>
              <a:ext cx="3565800" cy="250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3a3a"/>
                </a:gs>
                <a:gs pos="50000">
                  <a:srgbClr val="969696"/>
                </a:gs>
                <a:gs pos="100000">
                  <a:srgbClr val="3a3a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1" name="AutoShape 18"/>
            <p:cNvSpPr/>
            <p:nvPr/>
          </p:nvSpPr>
          <p:spPr>
            <a:xfrm flipH="1">
              <a:off x="8136360" y="2083320"/>
              <a:ext cx="136800" cy="126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2" name="AutoShape 19"/>
            <p:cNvSpPr/>
            <p:nvPr/>
          </p:nvSpPr>
          <p:spPr>
            <a:xfrm flipH="1">
              <a:off x="5108040" y="2083320"/>
              <a:ext cx="139680" cy="126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3" name="Text Box 20"/>
            <p:cNvSpPr/>
            <p:nvPr/>
          </p:nvSpPr>
          <p:spPr>
            <a:xfrm>
              <a:off x="6575400" y="1989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4" name="Text Box 21"/>
            <p:cNvSpPr/>
            <p:nvPr/>
          </p:nvSpPr>
          <p:spPr>
            <a:xfrm>
              <a:off x="4646520" y="2373480"/>
              <a:ext cx="4082040" cy="32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25" name="Freeform 12"/>
          <p:cNvSpPr/>
          <p:nvPr/>
        </p:nvSpPr>
        <p:spPr>
          <a:xfrm>
            <a:off x="3348000" y="1268280"/>
            <a:ext cx="2590920" cy="11574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2c2c2">
                  <a:alpha val="32156"/>
                </a:srgbClr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11280" y="1483920"/>
            <a:ext cx="79977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    结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26920" y="2420640"/>
            <a:ext cx="78487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．脊髓损伤的病因包括：①外伤性脊髓损伤致病因素：高空坠落、交通事故和体育运动等导致脊髓受压甚至完全断裂、刀伤、枪伤等脊髓外伤。②非外伤性脊髓损伤致病因素：炎症、肿瘤、血管病变、退行性病变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．脊髓损伤的主要功能包括障碍运动功能障碍、感觉功能障碍、排尿、排便功能障碍、自主性反射障碍、脊髓休克、其他功能障碍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矩形 2"/>
          <p:cNvSpPr/>
          <p:nvPr/>
        </p:nvSpPr>
        <p:spPr>
          <a:xfrm>
            <a:off x="755640" y="199692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脊髓损伤急性期康复护理措施包括：正确体位的摆放、被动活动、主动活动、体位变换、呼吸及排痰训练、排尿、排便的处理。恢复期康复护理措施包括：运动功能训练、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ADL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能力训练、矫形器、辅助器具和环境改造的护理、心理护理。另外，还需进行并发症的预防和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指导患者进行自我管理、调整饮食、合理膳食、调节心理、坚持康复训练、回归社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C368D-65FD-41D1-AA52-04E48F5D400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179280" y="1989000"/>
            <a:ext cx="84297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二）分类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根据致病因素分为外伤性脊髓损伤和非外伤性脊髓损伤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根据损伤程度可分为完全性脊髓损伤和不完全性脊髓损伤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94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324000" y="1628280"/>
            <a:ext cx="864072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三）病因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外伤性脊髓损伤致病因素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高空坠落、交通事故和体育运动等导致脊髓受压甚至完全断裂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.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刀伤、枪伤等脊髓外伤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非外伤性脊髓损伤致病因素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7" name="Text Box 10"/>
          <p:cNvSpPr/>
          <p:nvPr/>
        </p:nvSpPr>
        <p:spPr>
          <a:xfrm>
            <a:off x="4572000" y="4869000"/>
            <a:ext cx="4175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）炎症（</a:t>
            </a:r>
            <a:r>
              <a:rPr b="1" lang="en-US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）肿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）血管病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）退行性病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Freeform 12"/>
          <p:cNvSpPr/>
          <p:nvPr/>
        </p:nvSpPr>
        <p:spPr>
          <a:xfrm rot="1061400">
            <a:off x="5940000" y="4005000"/>
            <a:ext cx="1800360" cy="86976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4e26c">
                  <a:alpha val="32156"/>
                </a:srgbClr>
              </a:gs>
              <a:gs pos="100000">
                <a:srgbClr val="969696"/>
              </a:gs>
            </a:gsLst>
            <a:lin ang="205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99" name="Group 15"/>
          <p:cNvGrpSpPr/>
          <p:nvPr/>
        </p:nvGrpSpPr>
        <p:grpSpPr>
          <a:xfrm>
            <a:off x="4643280" y="4724280"/>
            <a:ext cx="3814560" cy="3733920"/>
            <a:chOff x="4643280" y="4724280"/>
            <a:chExt cx="3814560" cy="3733920"/>
          </a:xfrm>
        </p:grpSpPr>
        <p:sp>
          <p:nvSpPr>
            <p:cNvPr id="400" name="AutoShape 16"/>
            <p:cNvSpPr/>
            <p:nvPr/>
          </p:nvSpPr>
          <p:spPr>
            <a:xfrm>
              <a:off x="4643280" y="4815720"/>
              <a:ext cx="3814560" cy="160776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AutoShape 17"/>
            <p:cNvSpPr/>
            <p:nvPr/>
          </p:nvSpPr>
          <p:spPr>
            <a:xfrm>
              <a:off x="5002200" y="4743720"/>
              <a:ext cx="3097080" cy="146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3a3a"/>
                </a:gs>
                <a:gs pos="50000">
                  <a:srgbClr val="969696"/>
                </a:gs>
                <a:gs pos="100000">
                  <a:srgbClr val="3a3a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AutoShape 18"/>
            <p:cNvSpPr/>
            <p:nvPr/>
          </p:nvSpPr>
          <p:spPr>
            <a:xfrm flipH="1">
              <a:off x="7800840" y="4779000"/>
              <a:ext cx="118800" cy="734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AutoShape 19"/>
            <p:cNvSpPr/>
            <p:nvPr/>
          </p:nvSpPr>
          <p:spPr>
            <a:xfrm flipH="1">
              <a:off x="5169960" y="4779000"/>
              <a:ext cx="121320" cy="734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Text Box 20"/>
            <p:cNvSpPr/>
            <p:nvPr/>
          </p:nvSpPr>
          <p:spPr>
            <a:xfrm>
              <a:off x="6432120" y="4724280"/>
              <a:ext cx="183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Text Box 21"/>
            <p:cNvSpPr/>
            <p:nvPr/>
          </p:nvSpPr>
          <p:spPr>
            <a:xfrm>
              <a:off x="4801680" y="5223960"/>
              <a:ext cx="3545280" cy="32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C44AC-E5D9-4931-8BAE-FE09A51CCC8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468000" y="2249640"/>
            <a:ext cx="842940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四）流行病学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各国研究资料表明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80%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患者年龄在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0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岁以下的青年人，男女比例为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: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且发病率呈逐年上升的趋势。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Verdana"/>
                <a:ea typeface="宋体"/>
              </a:rPr>
              <a:t>案例</a:t>
            </a:r>
            <a:r>
              <a:rPr b="1" lang="en-US" sz="4400" spc="-1" strike="noStrike">
                <a:solidFill>
                  <a:srgbClr val="ff0000"/>
                </a:solidFill>
                <a:latin typeface="Verdana"/>
                <a:ea typeface="宋体"/>
              </a:rPr>
              <a:t>6-4A</a:t>
            </a:r>
            <a:br>
              <a:rPr sz="4400"/>
            </a:b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566280" y="1752480"/>
            <a:ext cx="7750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赵某，男，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28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岁，建筑工人，因工作不慎从高处坠落，入院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小时，临床诊断：颈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颈椎骨折脱位，脊髓损伤。患者入院后意识清晰，语言流利，生命体征平稳，无其他脏器损伤。查体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:C6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平面以下感觉缺失、四肢瘫、肌张力低、腱反射消失、排尿、排便障碍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</a:rPr>
              <a:t>问题与思考：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"/>
              </a:rPr>
              <a:t>1</a:t>
            </a:r>
            <a:r>
              <a:rPr b="1" lang="zh-CN" sz="2800" spc="-1" strike="noStrike">
                <a:solidFill>
                  <a:srgbClr val="c00000"/>
                </a:solidFill>
                <a:latin typeface="楷体"/>
              </a:rPr>
              <a:t>）该患者存在哪些功能障碍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"/>
              </a:rPr>
              <a:t>2</a:t>
            </a:r>
            <a:r>
              <a:rPr b="1" lang="zh-CN" sz="2800" spc="-1" strike="noStrike">
                <a:solidFill>
                  <a:srgbClr val="c00000"/>
                </a:solidFill>
                <a:latin typeface="楷体"/>
              </a:rPr>
              <a:t>）对该患者应进行哪些康复护理评估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BAF2A-B162-4668-B1B5-C2699838BF1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74200" y="83628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一）运动功能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根据损伤部位不同，可表现为不同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运动功能障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肌力改变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             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肌张力改变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                    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反射功能的改变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9:27:03Z</dcterms:modified>
  <cp:revision>11</cp:revision>
  <dc:subject/>
  <dc:title>第一章 儿科疾病的护理</dc:title>
</cp:coreProperties>
</file>